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8A710-7B1E-4DC4-97EB-C03BB6AB4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5429B-39A0-4AA1-8D54-F50CBD685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A27CE-F87C-4459-8D1F-958A231F7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F30D0-E2B8-442F-BDA0-4C3280470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4F2D8E-BDB5-4B0F-938C-09EC6F9F8E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77C00-7E5C-46E4-A438-C877157D0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02F92-BE50-4CC2-9644-4E193CBD3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E9E33-512A-497D-A142-BC07FAD34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4F6EFD-44C1-4C87-92E4-FAF5EF7D5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3DF01-A831-414D-8F31-40059919C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E0241-D1B4-4D48-A73F-0F91E049B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18340-C4A3-4C34-BE22-FA488F899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B5C59-677B-402C-946E-4EAE93E0A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6B7C0-40F7-4901-B23E-53915CA35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9E27F-7566-429A-B2EA-600ED79E9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6722E2-4488-4FCE-A901-AECB76ACDC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BD247B-BFF0-46F1-82A7-24090D1334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EAA0FB-C9F6-40F7-B7B4-EAA6CF451C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C97E55-84BC-4412-900D-06DB42AB23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A64277-6A0E-4D89-9EB4-334CC5E120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161A10-8135-4E57-9191-A25B3FF47C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B0F9D3-AA7D-439C-BC87-55C8B8B146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99830-4464-43F8-9ACE-4EF1BE4BB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2AF5BD-DCB4-4280-AA63-CD71407955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38F1E7-9390-4B65-BDE4-74ED1D8E01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D80479-155A-4B9A-A4F1-C35E808FDA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A071DB-AE34-4255-937D-543C8CB607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E0F295-E7B3-4137-8302-031B68D6F4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7968F3-7707-47FB-8862-46819A2D77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1678AD-4B4A-485F-9CD4-0E5737114F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BD687-4097-4250-92D2-AEC850B28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E28DE-3B93-4D3A-9BB7-35DDFD4EA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9A0BE-2258-4438-9FEB-BE42EB14F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60E6A-3CF7-404B-A474-ACBCF31A2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566B3-CC8F-480C-B26C-00BCD2F65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85B86-CDBD-4AA1-BA1A-D94C037C5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50"/>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99496-A239-4C95-B6DA-AC31105B890C}" type="slidenum">
              <a:rPr b="0" lang="es-MX"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7242120" cy="1981080"/>
            <a:chOff x="0" y="0"/>
            <a:chExt cx="7242120" cy="1981080"/>
          </a:xfrm>
        </p:grpSpPr>
        <p:sp>
          <p:nvSpPr>
            <p:cNvPr id="42"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2E4B-30D3-4931-B6BC-6F2DABF4BB08}"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85" name="Group 2"/>
          <p:cNvGrpSpPr/>
          <p:nvPr/>
        </p:nvGrpSpPr>
        <p:grpSpPr>
          <a:xfrm>
            <a:off x="0" y="0"/>
            <a:ext cx="8458200" cy="5943600"/>
            <a:chOff x="0" y="0"/>
            <a:chExt cx="8458200" cy="5943600"/>
          </a:xfrm>
        </p:grpSpPr>
        <p:sp>
          <p:nvSpPr>
            <p:cNvPr id="86"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9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2DB92-D5ED-4DFA-9163-278B322B81B2}"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1 Imagen" descr="Sin título.png"/>
          <p:cNvPicPr/>
          <p:nvPr/>
        </p:nvPicPr>
        <p:blipFill>
          <a:blip r:embed="rId1"/>
          <a:stretch/>
        </p:blipFill>
        <p:spPr>
          <a:xfrm>
            <a:off x="3286080" y="944640"/>
            <a:ext cx="2643120" cy="3413160"/>
          </a:xfrm>
          <a:prstGeom prst="rect">
            <a:avLst/>
          </a:prstGeom>
          <a:ln w="0">
            <a:noFill/>
          </a:ln>
        </p:spPr>
      </p:pic>
      <p:sp>
        <p:nvSpPr>
          <p:cNvPr id="130" name="1 Título"/>
          <p:cNvSpPr/>
          <p:nvPr/>
        </p:nvSpPr>
        <p:spPr>
          <a:xfrm>
            <a:off x="500040" y="4643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cc"/>
                </a:solidFill>
                <a:latin typeface="Tahoma"/>
              </a:rPr>
              <a:t>Les Salons et Bar</a:t>
            </a:r>
            <a:endParaRPr b="0" lang="en-US" sz="4400" spc="-1" strike="noStrike">
              <a:solidFill>
                <a:srgbClr val="000000"/>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cc"/>
                </a:solidFill>
                <a:latin typeface="Tahoma"/>
              </a:rPr>
              <a:t>Les Salons</a:t>
            </a:r>
            <a:endParaRPr b="0" lang="en-US" sz="4400" spc="-1" strike="noStrike">
              <a:solidFill>
                <a:srgbClr val="ffffcc"/>
              </a:solidFill>
              <a:latin typeface="Tahoma"/>
            </a:endParaRPr>
          </a:p>
        </p:txBody>
      </p:sp>
      <p:sp>
        <p:nvSpPr>
          <p:cNvPr id="132" name="3 CuadroTexto"/>
          <p:cNvSpPr/>
          <p:nvPr/>
        </p:nvSpPr>
        <p:spPr>
          <a:xfrm>
            <a:off x="785880" y="2428920"/>
            <a:ext cx="75009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ssemblées Générales, congrès, sommets internationaux, lancement de parfums, présentation de voitures, réunions incentives pour vos collaborateurs les plus méritants, le département Groupes de L’Hotel Reine Sissi est renommé pour sa flexibilité et sa créativité. </a:t>
            </a:r>
            <a:br>
              <a:rPr sz="2400"/>
            </a:br>
            <a:br>
              <a:rPr sz="2400"/>
            </a:br>
            <a:r>
              <a:rPr b="0" lang="fr-FR" sz="2400" spc="-1" strike="noStrike">
                <a:solidFill>
                  <a:srgbClr val="000000"/>
                </a:solidFill>
                <a:latin typeface="Arial"/>
              </a:rPr>
              <a:t>Un service des plus professionnels qui vous garantie le succès de vos évènements tout en vous déchargeant de tout souci d’organisation.</a:t>
            </a:r>
            <a:endParaRPr b="0" lang="en-US" sz="2400" spc="-1" strike="noStrike">
              <a:solidFill>
                <a:srgbClr val="000000"/>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1 Título"/>
          <p:cNvSpPr/>
          <p:nvPr/>
        </p:nvSpPr>
        <p:spPr>
          <a:xfrm>
            <a:off x="1571760" y="785880"/>
            <a:ext cx="6643440" cy="41432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500m2 de salles de réunions avec WiFi</a:t>
            </a:r>
            <a:br>
              <a:rPr sz="3000"/>
            </a:br>
            <a:r>
              <a:rPr b="0" lang="fr-FR" sz="3000" spc="-1" strike="noStrike">
                <a:solidFill>
                  <a:srgbClr val="000000"/>
                </a:solidFill>
                <a:latin typeface="Calibri"/>
              </a:rPr>
              <a:t>Capacités maximales :</a:t>
            </a:r>
            <a:endParaRPr b="0" lang="en-US" sz="30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n U: 60</a:t>
            </a:r>
            <a:endParaRPr b="0" lang="en-US" sz="30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n Rectangle: 70</a:t>
            </a:r>
            <a:endParaRPr b="0" lang="en-US" sz="30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n style classe: 150</a:t>
            </a:r>
            <a:endParaRPr b="0" lang="en-US" sz="30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n style théatre: 230</a:t>
            </a:r>
            <a:endParaRPr b="0" lang="en-US" sz="30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Pour un banquet: 150</a:t>
            </a:r>
            <a:endParaRPr b="0" lang="en-US" sz="30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Pour un buffet: 250</a:t>
            </a:r>
            <a:endParaRPr b="0" lang="en-US" sz="30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Pour un cocktail: 300</a:t>
            </a:r>
            <a:br>
              <a:rPr sz="2200"/>
            </a:br>
            <a:r>
              <a:rPr b="0" lang="es-ES" sz="2200" spc="-1" strike="noStrike">
                <a:solidFill>
                  <a:srgbClr val="ffffcc"/>
                </a:solidFill>
                <a:latin typeface="Tahoma"/>
              </a:rPr>
              <a:t> </a:t>
            </a:r>
            <a:endParaRPr b="0" lang="en-US" sz="2200" spc="-1" strike="noStrike">
              <a:solidFill>
                <a:srgbClr val="000000"/>
              </a:solidFill>
              <a:latin typeface="Arial"/>
            </a:endParaRPr>
          </a:p>
        </p:txBody>
      </p:sp>
      <p:sp>
        <p:nvSpPr>
          <p:cNvPr id="134" name="Rectangle 2"/>
          <p:cNvSpPr/>
          <p:nvPr/>
        </p:nvSpPr>
        <p:spPr>
          <a:xfrm>
            <a:off x="642960" y="5359680"/>
            <a:ext cx="79297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Notre restaurant peut également être privatisé pour accommoder jusqu’à 500 personnes pour un cocktail et 300 personnes pour un buffet.</a:t>
            </a:r>
            <a:endParaRPr b="0" lang="en-US" sz="1600" spc="-1" strike="noStrike">
              <a:solidFill>
                <a:srgbClr val="000000"/>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1 Título"/>
          <p:cNvSpPr/>
          <p:nvPr/>
        </p:nvSpPr>
        <p:spPr>
          <a:xfrm>
            <a:off x="428760" y="142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cc"/>
                </a:solidFill>
                <a:latin typeface="Tahoma"/>
              </a:rPr>
              <a:t>Bar Leman </a:t>
            </a:r>
            <a:endParaRPr b="0" lang="en-US" sz="4400" spc="-1" strike="noStrike">
              <a:solidFill>
                <a:srgbClr val="000000"/>
              </a:solidFill>
              <a:latin typeface="Arial"/>
            </a:endParaRPr>
          </a:p>
        </p:txBody>
      </p:sp>
      <p:sp>
        <p:nvSpPr>
          <p:cNvPr id="136" name="2 CuadroTexto"/>
          <p:cNvSpPr/>
          <p:nvPr/>
        </p:nvSpPr>
        <p:spPr>
          <a:xfrm>
            <a:off x="1071720" y="1601640"/>
            <a:ext cx="74293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lieu ou vous pouvez revivre l’histoire. Vous pourrez apprécier le luxe et la décoration du le temps de la couronne. L’hôtel Reine Sissi dispose d’un bar qui est a la fois élégant, spontané et chaleureux. Il est décoré avec marbre et bois rouge. L’atmosphere, l’eclairage intime, le menu et les cocktails fais de cette lieu une pairfat pour tout les types de rendez-vous avec une belle vue sur le lac lem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dans Reine Sissi hôtel croit que la vie privée est importante, c'est pourquoi le bar accueille à 40 perso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uvert seulement pour hôtes du l’hôt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ous pouvez profiter de notre gastronomie délicieuse pour un déjeuner informel. </a:t>
            </a:r>
            <a:endParaRPr b="0" lang="en-US" sz="1800" spc="-1" strike="noStrike">
              <a:solidFill>
                <a:srgbClr val="000000"/>
              </a:solidFill>
              <a:latin typeface="Arial"/>
            </a:endParaRPr>
          </a:p>
        </p:txBody>
      </p:sp>
      <p:sp>
        <p:nvSpPr>
          <p:cNvPr id="137" name="1 Título"/>
          <p:cNvSpPr/>
          <p:nvPr/>
        </p:nvSpPr>
        <p:spPr>
          <a:xfrm>
            <a:off x="642960" y="114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2 Imagen" descr="img_8450-666x443.jpg"/>
          <p:cNvPicPr/>
          <p:nvPr/>
        </p:nvPicPr>
        <p:blipFill>
          <a:blip r:embed="rId1"/>
          <a:stretch/>
        </p:blipFill>
        <p:spPr>
          <a:xfrm>
            <a:off x="343080" y="615960"/>
            <a:ext cx="8458200" cy="5626080"/>
          </a:xfrm>
          <a:prstGeom prst="rect">
            <a:avLst/>
          </a:prstGeom>
          <a:ln w="0">
            <a:noFill/>
          </a:ln>
        </p:spPr>
      </p:pic>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1 Imagen" descr="img_8465-666x443.jpg"/>
          <p:cNvPicPr/>
          <p:nvPr/>
        </p:nvPicPr>
        <p:blipFill>
          <a:blip r:embed="rId1"/>
          <a:stretch/>
        </p:blipFill>
        <p:spPr>
          <a:xfrm>
            <a:off x="343080" y="615960"/>
            <a:ext cx="8458200" cy="5626080"/>
          </a:xfrm>
          <a:prstGeom prst="rect">
            <a:avLst/>
          </a:prstGeom>
          <a:ln w="0">
            <a:noFill/>
          </a:ln>
        </p:spPr>
      </p:pic>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1 Imagen" descr="menu imrpesion.jpg"/>
          <p:cNvPicPr/>
          <p:nvPr/>
        </p:nvPicPr>
        <p:blipFill>
          <a:blip r:embed="rId1"/>
          <a:stretch/>
        </p:blipFill>
        <p:spPr>
          <a:xfrm>
            <a:off x="928800" y="0"/>
            <a:ext cx="3429000" cy="6858000"/>
          </a:xfrm>
          <a:prstGeom prst="rect">
            <a:avLst/>
          </a:prstGeom>
          <a:ln w="0">
            <a:noFill/>
          </a:ln>
        </p:spPr>
      </p:pic>
      <p:pic>
        <p:nvPicPr>
          <p:cNvPr id="141" name="2 Imagen" descr="menuimprimir atras.jpg"/>
          <p:cNvPicPr/>
          <p:nvPr/>
        </p:nvPicPr>
        <p:blipFill>
          <a:blip r:embed="rId2"/>
          <a:stretch/>
        </p:blipFill>
        <p:spPr>
          <a:xfrm>
            <a:off x="5000760" y="0"/>
            <a:ext cx="3433680" cy="6858000"/>
          </a:xfrm>
          <a:prstGeom prst="rect">
            <a:avLst/>
          </a:prstGeom>
          <a:ln w="0">
            <a:noFill/>
          </a:ln>
        </p:spPr>
      </p:pic>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15:06:16Z</dcterms:created>
  <dc:creator>SOFIA ANTOGNINI</dc:creator>
  <dc:description/>
  <dc:language>en-US</dc:language>
  <cp:lastModifiedBy>LUCAS</cp:lastModifiedBy>
  <dcterms:modified xsi:type="dcterms:W3CDTF">2011-05-12T22:26:48Z</dcterms:modified>
  <cp:revision>19</cp:revision>
  <dc:subject/>
  <dc:title>Où est situé le pays choisi?</dc:title>
</cp:coreProperties>
</file>